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applause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D64-9453-4CE7-9DBD-3954A235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AD9-EC4E-4E32-B9FF-283860A6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D1A-B434-4F34-A10E-A51C0A34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314-A9ED-4A1E-BE99-0C8D2A2A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48B-9995-4FF1-8D34-82A9BCA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C5C-92FD-47F6-BF6C-69FF3DC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D0D-A711-4426-B384-240A1794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1C2-C049-4536-929D-4E488769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FCE-E08C-458B-8491-7A91744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535-6B94-4C42-8C69-0B40EC0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6EB-6F66-4B2D-8626-2B36DE53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396-9E9D-4F15-8792-5689861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FEDB-BF9A-4F4A-AAF2-327D45BA5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nnes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590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 AndreJ. Fi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innesota Image"/>
          <p:cNvPicPr/>
          <p:nvPr/>
        </p:nvPicPr>
        <p:blipFill>
          <a:blip r:embed="rId1"/>
          <a:stretch/>
        </p:blipFill>
        <p:spPr>
          <a:xfrm>
            <a:off x="2209680" y="3657600"/>
            <a:ext cx="49532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74320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’s nickname is land of 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Saint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’s state bird is common 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pulation is 4,972 2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8076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’s motto is The Star of the N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800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flower is Lady sli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53:01Z</dcterms:created>
  <dc:creator>Mother of Divine Grace</dc:creator>
  <dc:description/>
  <dc:language>en-US</dc:language>
  <cp:lastModifiedBy> </cp:lastModifiedBy>
  <dcterms:modified xsi:type="dcterms:W3CDTF">2012-05-20T21:24:07Z</dcterms:modified>
  <cp:revision>5</cp:revision>
  <dc:subject/>
  <dc:title>Minnesota</dc:title>
</cp:coreProperties>
</file>